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8C69-C517-4902-8C43-D7E4AFDF56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Жизнь и творче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Baskerville Old Face"/>
              </a:rPr>
              <a:t>Фёдора   Иванович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3B8A-31D0-418A-9579-D2E1FE02DC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Био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Фёд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Тютчев Иванович (1803 — 1873) — известный поэт, один из самых выдающихся представителей философской и политической лир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Родился 23 ноября ( 5 декабря н.с.)  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усадьбе  Овстуг Орловской губернии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тародворянской      среднепомест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емье. Детские годы прошли в Овстуг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юношеские — связаны с Москв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5B8C-6C94-40D0-A487-26113EF46A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Домашним образованием руководи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молодой   поэт-переводчик    С. Раич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знакомивший ученика с творе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этов  и  поощрявший  его  перв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тихотворные опыты. В 12 л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Тютчев уже успешно переводил Гор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19 поступил на словесное отделение Московского университета и сразу принял живое участие в его литературной жизни. Окончив университет в 1821 со степенью кандидата словесных наук, в начале 1822 Тютчев поступил на службу в Государственную коллегию иностранных дел. Через несколько месяцев был назначен чиновником при Русской дипломатической миссии в Мюнхене. С этого времени его связь с русской литературной жизнью надолго прерыва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6FA9-EE3A-4517-BF2D-573A7A4FC8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На чужбине Тютчев провел двадцать д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года, из них двадцать — в Мюнхене. Здесь о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женился,  здесь  познакомился  с философ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Шеллингом  и  подружился  с Г. Гейне, ста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ервым переводчиком его стихов на рус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язы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29 — 1830 в журнале Раича "Галатея" были опубликованы стихотворения Тютчева, свидетельствовавшие о зрелости его поэтического таланта ("Летний вечер", "Видение", "Бессонница", "Сны"), но не принесшие известности авто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Настоящее признание поэзия Тютчева впервые получила в 1836, когда в пушкинском "Современнике" появились его 16 стихотвор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9D79-50C7-4321-A985-88C634430F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37 Тютчев был назначен первы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екретарем Русской миссии в Турине, гд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ережил первую тяжелую утрату: умер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жена.  В  1839  он  вступил  в новый бра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лужебный проступок Тютчева (отъезд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Швейцарию для венчания с Э. Дернберг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ложил конец его дипломатической служб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дал в отставку и поселился в Мюнхене, где провел еще пять лет, не имея никакого официального положения. Настойчиво искал пути возвращения на служб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44 переехал с семьей в Россию, а через полгода вновь был принят на службу в Министерство иностранных де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4A9B-8BBF-440F-BD24-DEAE36FF35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1843 — 1850 выступил с политическими статьями "Россия и Германия", "Россия и Революция", "Папство и римский вопрос", делая вывод о неизбежности столкновения между Россией и Западом и конечного торжества "России будущего", которая представлялась ему "всеславянской" импер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48 — 1849, захваченный событиями политической жизни, он создал такие прекрасные стихотворения, как "Неохотно и несмело...", "Когда в кругу убийственных забот...", "Русской женщине" и др., но не стремился напечатать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Началом поэтической известности Тютчева и толчком к его активному творчеству стала статья Некрасова "Русские второстепенные поэты" в журнале "Современник", в которой говорилось о таланте этого поэта, не замеченного критикой, и публикация 24 стихотворений Тютчева. К поэту пришло настоящее призн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2335-164D-40DC-B92F-6F3EA370E9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54 вышел первый сборник стихотворе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этом же году был напечатан цикл стихов 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любви,    посвященных    Елене    Денисьев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"Беззаконные"   в   глазах   света   отно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немолодого  поэта  с  ровесницей  его  дочер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родолжались в течение четырнадцати лет и были очень драматичны (Тютчев был жена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58 он был назначен председателем Комитета иностранной цензуры, не раз выступая заступником преследуемых изд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 1864 Тютчев несет одну потерю за другой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умирает от чахотки Денисьева, через год 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двое их детей, его м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5E6C-63DE-4861-AC6B-0F22E035AC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творчестве Тютчева 1860? преобладают политические стихотворения и мелкие. — "на случаи" ("Когда дряхлеющие силы...", 1866, "Славянам", 1867,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следние годы жизни  тоже омрачены тяжелыми утратами: умирают его старший сын, брат, дочь Мария. Жизнь поэта угасает. 15 июля (27 н.с.) 1873 в Царском Селе Тютчев скончал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7DDA-B960-44D0-994E-1A7CA9CC14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5134-A18A-476E-9C95-452E1C8A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16BB-973B-4D97-93BD-FA4E4187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9A5D-0CB2-4EB2-9EC0-D2760A643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8D19-A03F-4D01-8EF4-B07464B71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5B3D-C17D-497E-A413-0BCA4A78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38CE-4726-4547-8255-360E5F60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558B-3C77-4F7E-A519-2C41ECC0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8542-C911-44C5-A1D1-60EBABA8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0BDC-3B94-4BB7-9A23-56629CCE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1717-0B6D-4E3A-AD8F-159BF99E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9BFD-F4EB-424F-86C2-61CA9FF8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806C-F8EA-4109-BD7F-F741A872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DD52-633B-4347-9207-CF8905F22A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0_9b9e_f9b4b96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64818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askerville Old Face"/>
              </a:rPr>
              <a:t>Жизнь и творчество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4356000" y="952560"/>
            <a:ext cx="4630680" cy="5905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78920" y="1267920"/>
            <a:ext cx="4824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askerville Old Face"/>
              </a:rPr>
              <a:t>Фёдора   Иванови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971640" y="198900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askerville Old Face"/>
              </a:rPr>
              <a:t>Тютч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179280" y="4437000"/>
            <a:ext cx="38163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Выполнила: ученица 8 класса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Средней школы №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Г. Кур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Сотникова Анаста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9"/>
          <p:cNvSpPr/>
          <p:nvPr/>
        </p:nvSpPr>
        <p:spPr>
          <a:xfrm>
            <a:off x="3857760" y="6357960"/>
            <a:ext cx="2286000" cy="5000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askerville Old Face"/>
              </a:rPr>
              <a:t>Биограф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108000" y="1125000"/>
            <a:ext cx="8964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Фёд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Тютчев Иванович (1803 — 1873) — известный поэт, один из самых выдающихся представителей философской и политической ли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Родился 23 ноября ( 5 декабря н.с.)  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усадьбе  Овстуг Орловской губерни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тародворянской      среднепомест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емье. Детские годы прошли в Овстуг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юношеские — связаны с Моск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5796000" y="2133720"/>
            <a:ext cx="3200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179280" y="3500280"/>
            <a:ext cx="8713800" cy="3168720"/>
          </a:xfrm>
          <a:prstGeom prst="rect">
            <a:avLst/>
          </a:prstGeom>
          <a:solidFill>
            <a:srgbClr val="ff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-18108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Домашним образованием руковод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молодой   поэт-переводчик    С. Раич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знакомивший ученика с творени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этов  и  поощрявший  его  перв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тихотворные опыты. В 12 л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Тютчев уже успешно переводил Гор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19 поступил на словесное отделение Московского университета и сразу принял живое участие в его литературной жизни. Окончив университет в 1821 со степенью кандидата словесных наук, в начале 1822 Тютчев поступил на службу в Государственную коллегию иностранных дел. Через несколько месяцев был назначен чиновником при Русской дипломатической миссии в Мюнхене. С этого времени его связь с русской литературной жизнью надолго преры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6300720" y="115920"/>
            <a:ext cx="2538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-181440" y="-360"/>
            <a:ext cx="9217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На чужбине Тютчев провел двадцать д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года, из них двадцать — в Мюнхене. Здесь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женился,  здесь  познакомился  с философ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Шеллингом  и  подружился  с Г. Гейне, ст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ервым переводчиком его стихов на рус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язы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29 — 1830 в журнале Раича "Галатея" были опубликованы стихотворения Тютчева, свидетельствовавшие о зрелости его поэтического таланта ("Летний вечер", "Видение", "Бессонница", "Сны"), но не принесшие известности авто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Настоящее признание поэзия Тютчева впервые получила в 1836, когда в пушкинском "Современнике" появились его 16 стихотвор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i"/>
          <p:cNvPicPr/>
          <p:nvPr/>
        </p:nvPicPr>
        <p:blipFill>
          <a:blip r:embed="rId2"/>
          <a:stretch/>
        </p:blipFill>
        <p:spPr>
          <a:xfrm>
            <a:off x="6419880" y="0"/>
            <a:ext cx="2549520" cy="3213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6804000" y="321300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6588000" y="321300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askerville Old Face"/>
              </a:rPr>
              <a:t>Элеонора Петерс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181440" y="188640"/>
            <a:ext cx="9145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37 Тютчев был назначен перв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екретарем Русской миссии в Турине, г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ережил первую тяжелую утрату: умер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жена.  В  1839  он  вступил  в новый бра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лужебный проступок Тютчева (отъезд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Швейцарию для венчания с Э. Дернберг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ложил конец его дипломатической служб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дал в отставку и поселился в Мюнхене, где провел еще пять лет, не имея никакого официального положения. Настойчиво искал пути возвращения на служ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44 переехал с семьей в Россию, а через полгода вновь был принят на службу в Министерство иностранных д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0_62248_2bd0ee89_XL"/>
          <p:cNvPicPr/>
          <p:nvPr/>
        </p:nvPicPr>
        <p:blipFill>
          <a:blip r:embed="rId2"/>
          <a:stretch/>
        </p:blipFill>
        <p:spPr>
          <a:xfrm>
            <a:off x="6443640" y="189000"/>
            <a:ext cx="2557440" cy="3097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6551640" y="3357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askerville Old Face"/>
              </a:rPr>
              <a:t>Эрнестина Дёрнб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-181440" y="0"/>
            <a:ext cx="9325080" cy="69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1843 — 1850 выступил с политическими статьями "Россия и Германия", "Россия и Революция", "Папство и римский вопрос", делая вывод о неизбежности столкновения между Россией и Западом и конечного торжества "России будущего", которая представлялась ему "всеславянской" импер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48 — 1849, захваченный событиями политической жизни, он создал такие прекрасные стихотворения, как "Неохотно и несмело...", "Когда в кругу убийственных забот...", "Русской женщине" и др., но не стремился напечатать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Началом поэтической известности Тютчева и толчком к его активному творчеству стала статья Некрасова "Русские второстепенные поэты" в журнале "Современник", в которой говорилось о таланте этого поэта, не замеченного критикой, и публикация 24 стихотворений Тютчева. К поэту пришло настоящее призн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-108000" y="188640"/>
            <a:ext cx="9252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54 вышел первый сборник стихотвор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этом же году был напечатан цикл стихов 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любви,    посвященных    Елене    Денисье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"Беззаконные"   в   глазах   света   отно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немолодого  поэта  с  ровесницей  его  доче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родолжались в течение четырнадцати лет и были очень драматичны (Тютчев был жена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58 он был назначен председателем Комитета иностранной цензуры, не раз выступая заступником преследуемых из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 1864 Тютчев несет одну потерю за друго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умирает от чахотки Денисьева, через год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двое их детей, его м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img4"/>
          <p:cNvPicPr/>
          <p:nvPr/>
        </p:nvPicPr>
        <p:blipFill>
          <a:blip r:embed="rId2"/>
          <a:stretch/>
        </p:blipFill>
        <p:spPr>
          <a:xfrm>
            <a:off x="6964200" y="0"/>
            <a:ext cx="2179800" cy="2565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1470-6-b"/>
          <p:cNvPicPr/>
          <p:nvPr/>
        </p:nvPicPr>
        <p:blipFill>
          <a:blip r:embed="rId3"/>
          <a:stretch/>
        </p:blipFill>
        <p:spPr>
          <a:xfrm>
            <a:off x="6851520" y="4149720"/>
            <a:ext cx="22924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-252360" y="260280"/>
            <a:ext cx="8794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творчестве Тютчева 1860? преобладают политические стихотворения и мелкие. — "на случаи" ("Когда дряхлеющие силы...", 1866, "Славянам", 1867,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следние годы жизни  тоже омрачены тяжелыми утратами: умирают его старший сын, брат, дочь Мария. Жизнь поэта угасает. 15 июля (27 н.с.) 1873 в Царском Селе Тютчев сконча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3924360" y="3141720"/>
            <a:ext cx="509256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627280" y="404640"/>
            <a:ext cx="381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Baskerville Old Face"/>
              </a:rPr>
              <a:t>Спасибо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4716360" y="1844640"/>
            <a:ext cx="3830760" cy="4681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539640" y="1844640"/>
            <a:ext cx="35146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5T18:05:39Z</dcterms:created>
  <dc:creator>1</dc:creator>
  <dc:description/>
  <dc:language>en-US</dc:language>
  <cp:lastModifiedBy>LEGION</cp:lastModifiedBy>
  <dcterms:modified xsi:type="dcterms:W3CDTF">2015-01-20T08:16:53Z</dcterms:modified>
  <cp:revision>4</cp:revision>
  <dc:subject/>
  <dc:title>Слайд 1</dc:title>
</cp:coreProperties>
</file>